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D64-3C5A-41AB-AAC9-CA2D959F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D2C-8D7D-40E1-BA9A-FD9068B9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7E3-958F-470B-80D9-EF742AF8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B00-135C-4655-B16C-2060F610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C19B-6480-4D13-B308-8B2E17CA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44DD-1043-4D64-9555-51199488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0EAE-44C7-4486-AF73-059AED0B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6888-DBF0-4635-AF6F-FD41377A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9D7B-C797-4E1E-A6B5-748CD470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8F6A-850B-4132-B11B-98BA0F6B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DF34-C70C-448C-BFDE-3269AA84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58D-9CFC-4D20-B501-DBF025AA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1225-4BC8-4E64-A9B2-40E31026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5FE6-ACD3-4ED0-BCD7-650CA3FC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57DB-871E-40BC-B162-17777B52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3CAD-02CA-49E3-93A7-0968EC26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7D80-178E-4A6E-87C6-30F71305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741-BBF7-4562-B17F-50A519B1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BB6-7FD0-477F-867A-75B6453D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FC5-1199-4275-8D41-3FFCA831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2EF-1D9E-4E91-A8E7-BEBB356B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9F6-6BF6-42D6-B584-F25F3EB2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7E9-1ACB-42BC-BB13-198E153B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254-0A07-4C3D-BC85-721FAC81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5181-A0A5-4E34-91F4-45839B5732EC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008E-360F-49F3-A30F-B6D2EB0696EA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pperplate Gothic Light"/>
              </a:rPr>
              <a:t>The 54th Massachusetts</a:t>
            </a:r>
            <a:endParaRPr b="1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4352760" cy="32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January 1, 1863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Lincoln issues the Emancipation Proclamation (frees slaves)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Black men throughout the north are encouraged to join the wa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657600" y="4127400"/>
            <a:ext cx="24336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Regiment’s leader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All black army regiments were lead by white officer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olonel Robert Gould Shaw became leader of the 54th Massachusetts in March 1863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Recruited men throughout Boston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Overwhelming positive response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Mainly educated, free black men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Southern Reaction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Jefferson Davis issues proclamation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All African American soldiers and any white officer leading them should be punished by death 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8320" y="278136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Tension within Regimen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Black soldiers were being paid $10 per month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Then $3 was withheld for clothing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This was NOT withheld from white soldiers</a:t>
            </a: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Many members of the 54th Massachusetts frequently refused their pay in protest of the inequality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2693880"/>
            <a:ext cx="3809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Notable Fighting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Fort Wagner (July 18, 1863)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Charleston, SC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272 casualties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Colonel Shaw killed in action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Union unable to take over the fort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5800" y="2614680"/>
            <a:ext cx="380988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Legacy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Word of the regiment’s bravery at Fort Wagner inspires black men to join the army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Lessens racial tension in the north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olonel Shaw is buried with his men, all black, at Fort Wagner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William Harvey Carney awarded Medal of Honor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480" y="373356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1989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Their innocence. Their heritage. Their lives. Nothing would be spared in the fight for their freedom.”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cars: Best Supporting Actor (Denzel), Best Cinematography, Best Sound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mmys: Best Instrumental Composition for a Motion Picture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71800" y="228600"/>
            <a:ext cx="2736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0:21:25Z</dcterms:created>
  <dc:creator>Dave Moffa</dc:creator>
  <dc:description/>
  <dc:language>en-US</dc:language>
  <cp:lastModifiedBy>Dave Moffa</cp:lastModifiedBy>
  <dcterms:modified xsi:type="dcterms:W3CDTF">2011-03-15T02:50:00Z</dcterms:modified>
  <cp:revision>14</cp:revision>
  <dc:subject/>
  <dc:title>The 54th Massachusetts</dc:title>
</cp:coreProperties>
</file>